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C8A-03E0-4FE1-B393-4AB0C557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C9E-2448-4945-ADCD-3AD37062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E30-BE82-4DD3-99A6-2906490D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CC9-997B-43DF-B1FC-3E5B7181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8EEB-A905-4260-9908-B51CC3A6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8939-68A6-4768-BB3D-89C690E7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5CD6-3D24-4C28-8371-339B3925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1D64-89A9-48B6-8C99-A29FE680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7B72-1CC7-4573-9AD8-81E264A4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5160-ED70-4211-9289-4C8F535F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8275-E97B-4DB6-AEC4-16E199C9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5F1-AE77-476A-A97F-6DD0FFEF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E417-EABB-46E1-A3A5-F938DEAF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6ECE-1648-45DC-B1D6-AC72DF5F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E7B7-21BD-4102-A0C6-94FE0C03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FC67-3A4B-4C1F-B722-C952C3BB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46CE-C994-4D29-AEA9-A1A36913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461-4DFC-42EC-83CB-15AE6A0A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7A2-3C86-465A-B5F7-719DCFCA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185-8FFB-4EFD-9F4A-5C3DDAA7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8A3-5F0E-4139-ADE5-BFD27436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E53-F513-4779-946D-D060B8A0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D65-FEFE-49F1-8A6E-6931628A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53D-C6E1-43E9-B7F7-A7BC73B2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8F18-A30A-4792-A6DB-751FA04A3DC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C37C-B7FD-48B0-8721-C2DBFA9FDF1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yes rule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4400" y="2438280"/>
            <a:ext cx="3276360" cy="1218960"/>
            <a:chOff x="914400" y="2438280"/>
            <a:chExt cx="3276360" cy="1218960"/>
          </a:xfrm>
        </p:grpSpPr>
        <p:sp>
          <p:nvSpPr>
            <p:cNvPr id="134" name=""/>
            <p:cNvSpPr/>
            <p:nvPr/>
          </p:nvSpPr>
          <p:spPr>
            <a:xfrm>
              <a:off x="914400" y="2438280"/>
              <a:ext cx="3276360" cy="121896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962280" y="2438280"/>
              <a:ext cx="3170520" cy="11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19360" y="2408040"/>
            <a:ext cx="472428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Consider a vision system used to detect zebra in static image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It has a “stripey area” operator to help it do this (the evidence E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Let p(h=zebra present) = 0.02 (prior established during training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Assume the “stripey area” operator is discrete valued (true/false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Let p(e=true|h=true)=0.8 (it’s a fairly good detector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Let p(e=true|h=false)=0.1 (there are non-zebra items with stripes in the data set – like the gate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Given e, we can establish p(h=true|e=true) …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Foto04-sam%20&amp;%20Zebra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22258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yes rule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Foto04-sam%20&amp;%20Zebra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2225520" cy="2819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657600" y="2590920"/>
                <a:ext cx="5181480" cy="33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rue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  <m:r>
                              <m:t xml:space="preserve">¬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¬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8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0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534320" y="6024600"/>
            <a:ext cx="614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te that this is an increase over the prior = 0.0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ue to the evidence 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pre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pite our intuition, our detector does not seem very “good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ember, only 1 in 50 images had a zeb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at means that 49 out of 50 do not contain a zebra and the detector is not 100% reliable. Some of these images will be incorrectly determined as having a zeb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iling to account for “negative” evidence properly is a typical failing of human intuitive reaso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ving on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uman intuition is not very Bayesian (e.g. Kahneman et al., 1982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 sure to apply Bayes theory correc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ayesian networks help us to organise our thinking clear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usality and Bayesian networks are rel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yesian netwo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14400" y="2895480"/>
            <a:ext cx="2590920" cy="2971800"/>
            <a:chOff x="914400" y="2895480"/>
            <a:chExt cx="2590920" cy="2971800"/>
          </a:xfrm>
        </p:grpSpPr>
        <p:sp>
          <p:nvSpPr>
            <p:cNvPr id="148" name=""/>
            <p:cNvSpPr/>
            <p:nvPr/>
          </p:nvSpPr>
          <p:spPr>
            <a:xfrm>
              <a:off x="1752840" y="2895480"/>
              <a:ext cx="83808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14400" y="3886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67240" y="5105520"/>
              <a:ext cx="838080" cy="76176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3886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0200" y="5029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523880" y="3657600"/>
              <a:ext cx="6094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3720" y="3657600"/>
              <a:ext cx="38088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133720" y="4648320"/>
              <a:ext cx="457200" cy="380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43200" y="4648320"/>
              <a:ext cx="22860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360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764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16920" y="515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4800" y="402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67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28840" y="2468160"/>
            <a:ext cx="472428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Compact representation of the joint probability over a set of variable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Each variable is represented as a node. Each variable can be discrete or continuou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Conditional independence assumptions are encoded using a set of arc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Set of nodes and arcs is referred to as a graph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No arcs imply nodes are conditionally independent of each other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Different types of graph exist. The one shown is a Directed Acyclic Graph (DAG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yesian networks - terminolo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14400" y="2895480"/>
            <a:ext cx="2590920" cy="2971800"/>
            <a:chOff x="914400" y="2895480"/>
            <a:chExt cx="2590920" cy="2971800"/>
          </a:xfrm>
        </p:grpSpPr>
        <p:sp>
          <p:nvSpPr>
            <p:cNvPr id="165" name=""/>
            <p:cNvSpPr/>
            <p:nvPr/>
          </p:nvSpPr>
          <p:spPr>
            <a:xfrm>
              <a:off x="1752840" y="2895480"/>
              <a:ext cx="83808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14400" y="3886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67240" y="5105520"/>
              <a:ext cx="838080" cy="76176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0" y="3886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5029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523880" y="3657600"/>
              <a:ext cx="6094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33720" y="3657600"/>
              <a:ext cx="38088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133720" y="4648320"/>
              <a:ext cx="457200" cy="380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3200" y="4648320"/>
              <a:ext cx="22860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8360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764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16920" y="515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4800" y="402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167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8840" y="2468160"/>
            <a:ext cx="472428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A is called a root node and has a prior only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B,D, and E are called leaf node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A “causes” B and “causes” C. So value of A determines value of B and C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A is the parent nodes of B and C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B and C are child nodes of A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To determine E, you need only to know C. E is conditionally independent of A given C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39720" y="5470560"/>
            <a:ext cx="5410440" cy="1219320"/>
          </a:xfrm>
          <a:prstGeom prst="rect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coding conditional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057400" y="2438280"/>
            <a:ext cx="3809880" cy="914400"/>
            <a:chOff x="2057400" y="2438280"/>
            <a:chExt cx="3809880" cy="914400"/>
          </a:xfrm>
        </p:grpSpPr>
        <p:grpSp>
          <p:nvGrpSpPr>
            <p:cNvPr id="183" name=""/>
            <p:cNvGrpSpPr/>
            <p:nvPr/>
          </p:nvGrpSpPr>
          <p:grpSpPr>
            <a:xfrm>
              <a:off x="2057400" y="2438280"/>
              <a:ext cx="914400" cy="914400"/>
              <a:chOff x="2057400" y="2438280"/>
              <a:chExt cx="914400" cy="914400"/>
            </a:xfrm>
          </p:grpSpPr>
          <p:sp>
            <p:nvSpPr>
              <p:cNvPr id="184" name=""/>
              <p:cNvSpPr/>
              <p:nvPr/>
            </p:nvSpPr>
            <p:spPr>
              <a:xfrm>
                <a:off x="2057400" y="2438280"/>
                <a:ext cx="914400" cy="9144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88160" y="2666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504960" y="2438280"/>
              <a:ext cx="914400" cy="914400"/>
              <a:chOff x="3504960" y="2438280"/>
              <a:chExt cx="914400" cy="9144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04960" y="2438280"/>
                <a:ext cx="914400" cy="9144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11320" y="2666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4952880" y="2438280"/>
              <a:ext cx="914400" cy="914400"/>
              <a:chOff x="4952880" y="2438280"/>
              <a:chExt cx="914400" cy="914400"/>
            </a:xfrm>
          </p:grpSpPr>
          <p:sp>
            <p:nvSpPr>
              <p:cNvPr id="190" name=""/>
              <p:cNvSpPr/>
              <p:nvPr/>
            </p:nvSpPr>
            <p:spPr>
              <a:xfrm>
                <a:off x="4952880" y="2438280"/>
                <a:ext cx="914400" cy="9144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259600" y="2666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971800" y="2895480"/>
              <a:ext cx="533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19360" y="2895480"/>
              <a:ext cx="533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7400" y="3429000"/>
                <a:ext cx="5181480" cy="20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</m:t>
                        </m:r>
                        <m:r>
                          <m:t xml:space="preserve">C</m:t>
                        </m:r>
                        <m:r>
                          <m:t xml:space="preserve">⊥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given 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ditional independence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828800" y="5486400"/>
                <a:ext cx="487692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parent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6936120" y="5791320"/>
            <a:ext cx="194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FACTOR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EPRESENT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ecifying the Conditional Probability Term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28840" y="2468160"/>
            <a:ext cx="47242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For a discrete node C with discrete parents A and B, the conditional probability term P(C|A,B) can be represented as a value table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952880" y="3948120"/>
          <a:ext cx="3048120" cy="234468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  <a:gridCol w="1600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c=T|A,B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1069560" y="2743200"/>
            <a:ext cx="2666520" cy="3340800"/>
            <a:chOff x="1069560" y="2743200"/>
            <a:chExt cx="2666520" cy="3340800"/>
          </a:xfrm>
        </p:grpSpPr>
        <p:sp>
          <p:nvSpPr>
            <p:cNvPr id="201" name=""/>
            <p:cNvSpPr/>
            <p:nvPr/>
          </p:nvSpPr>
          <p:spPr>
            <a:xfrm>
              <a:off x="1630800" y="3355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81600" y="4900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67400" y="3344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20960" y="4068720"/>
              <a:ext cx="22860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30440" y="4068720"/>
              <a:ext cx="45720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69560" y="2743200"/>
              <a:ext cx="153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{red,green,blue}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2160" y="274464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{true,false}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50400" y="574668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{true,false}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78080" y="3220920"/>
              <a:ext cx="1006200" cy="8510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29000" y="3233880"/>
              <a:ext cx="1006200" cy="8506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08000" y="4751280"/>
              <a:ext cx="1006560" cy="8510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ecifying the Conditional Probability Term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28840" y="2468160"/>
            <a:ext cx="47242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 a continuous node C with continuous parents A and B, the conditional probability term P(C|A,B) can be represented as a fun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235160" y="3078000"/>
            <a:ext cx="2361600" cy="2590560"/>
            <a:chOff x="1235160" y="3078000"/>
            <a:chExt cx="2361600" cy="2590560"/>
          </a:xfrm>
        </p:grpSpPr>
        <p:sp>
          <p:nvSpPr>
            <p:cNvPr id="215" name=""/>
            <p:cNvSpPr/>
            <p:nvPr/>
          </p:nvSpPr>
          <p:spPr>
            <a:xfrm>
              <a:off x="1235160" y="3078000"/>
              <a:ext cx="1066320" cy="99036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30080" y="307800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44280" y="467820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02000" y="3285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81240" y="4900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7040" y="331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20600" y="4068360"/>
              <a:ext cx="22824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29720" y="4068360"/>
              <a:ext cx="45684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23" name="2Dmeshb" descr=""/>
          <p:cNvPicPr/>
          <p:nvPr/>
        </p:nvPicPr>
        <p:blipFill>
          <a:blip r:embed="rId1"/>
          <a:stretch/>
        </p:blipFill>
        <p:spPr>
          <a:xfrm>
            <a:off x="4800600" y="3639960"/>
            <a:ext cx="3657600" cy="3218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412240" y="6095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93320" y="6172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4185720" y="48830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c|A,B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ecifying the Conditional Probability Term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28840" y="2468160"/>
            <a:ext cx="47242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r a continuous node C with 1 continuous parent A and and 1 discrete parent B, the conditional probability term P(C|A,B) can be represented as a set of functions (the continuous function is selected according to a “context” determined by 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495680" y="4267080"/>
            <a:ext cx="3581640" cy="2441160"/>
            <a:chOff x="4495680" y="4267080"/>
            <a:chExt cx="3581640" cy="2441160"/>
          </a:xfrm>
        </p:grpSpPr>
        <p:sp>
          <p:nvSpPr>
            <p:cNvPr id="230" name=""/>
            <p:cNvSpPr/>
            <p:nvPr/>
          </p:nvSpPr>
          <p:spPr>
            <a:xfrm>
              <a:off x="4952880" y="4267080"/>
              <a:ext cx="0" cy="198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52880" y="6248520"/>
              <a:ext cx="3124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27680" y="4635360"/>
              <a:ext cx="2921040" cy="1638360"/>
            </a:xfrm>
            <a:custGeom>
              <a:avLst/>
              <a:gdLst/>
              <a:ahLst/>
              <a:rect l="l" t="t" r="r" b="b"/>
              <a:pathLst>
                <a:path w="1840" h="1032">
                  <a:moveTo>
                    <a:pt x="16" y="1016"/>
                  </a:moveTo>
                  <a:cubicBezTo>
                    <a:pt x="8" y="1024"/>
                    <a:pt x="0" y="1032"/>
                    <a:pt x="64" y="968"/>
                  </a:cubicBezTo>
                  <a:cubicBezTo>
                    <a:pt x="128" y="904"/>
                    <a:pt x="248" y="680"/>
                    <a:pt x="400" y="632"/>
                  </a:cubicBezTo>
                  <a:cubicBezTo>
                    <a:pt x="552" y="584"/>
                    <a:pt x="792" y="776"/>
                    <a:pt x="976" y="680"/>
                  </a:cubicBezTo>
                  <a:cubicBezTo>
                    <a:pt x="1160" y="584"/>
                    <a:pt x="1360" y="0"/>
                    <a:pt x="1504" y="56"/>
                  </a:cubicBezTo>
                  <a:cubicBezTo>
                    <a:pt x="1648" y="112"/>
                    <a:pt x="1792" y="848"/>
                    <a:pt x="1840" y="1016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2880" y="4483080"/>
              <a:ext cx="2819520" cy="1689120"/>
            </a:xfrm>
            <a:custGeom>
              <a:avLst/>
              <a:gdLst/>
              <a:ahLst/>
              <a:rect l="l" t="t" r="r" b="b"/>
              <a:pathLst>
                <a:path w="1776" h="1064">
                  <a:moveTo>
                    <a:pt x="0" y="824"/>
                  </a:moveTo>
                  <a:cubicBezTo>
                    <a:pt x="112" y="700"/>
                    <a:pt x="224" y="576"/>
                    <a:pt x="336" y="536"/>
                  </a:cubicBezTo>
                  <a:cubicBezTo>
                    <a:pt x="448" y="496"/>
                    <a:pt x="568" y="512"/>
                    <a:pt x="672" y="584"/>
                  </a:cubicBezTo>
                  <a:cubicBezTo>
                    <a:pt x="776" y="656"/>
                    <a:pt x="888" y="1064"/>
                    <a:pt x="960" y="968"/>
                  </a:cubicBezTo>
                  <a:cubicBezTo>
                    <a:pt x="1032" y="872"/>
                    <a:pt x="1032" y="16"/>
                    <a:pt x="1104" y="8"/>
                  </a:cubicBezTo>
                  <a:cubicBezTo>
                    <a:pt x="1176" y="0"/>
                    <a:pt x="1280" y="840"/>
                    <a:pt x="1392" y="920"/>
                  </a:cubicBezTo>
                  <a:cubicBezTo>
                    <a:pt x="1504" y="1000"/>
                    <a:pt x="1640" y="744"/>
                    <a:pt x="1776" y="48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98040" y="6248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200000">
              <a:off x="4109400" y="5111640"/>
              <a:ext cx="12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(c|A,B)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235160" y="2744640"/>
            <a:ext cx="2500920" cy="2924280"/>
            <a:chOff x="1235160" y="2744640"/>
            <a:chExt cx="2500920" cy="2924280"/>
          </a:xfrm>
        </p:grpSpPr>
        <p:sp>
          <p:nvSpPr>
            <p:cNvPr id="237" name=""/>
            <p:cNvSpPr/>
            <p:nvPr/>
          </p:nvSpPr>
          <p:spPr>
            <a:xfrm>
              <a:off x="1235160" y="30780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44640" y="46782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02360" y="3286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81600" y="4900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67400" y="331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20960" y="4068720"/>
              <a:ext cx="22860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30440" y="4068720"/>
              <a:ext cx="45720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12160" y="274464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{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true</a:t>
              </a: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,false}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29000" y="3233880"/>
              <a:ext cx="1006200" cy="8506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minder of probability the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ayes r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ayesian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rected Acyclic Graph (DA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914400" y="2895480"/>
            <a:ext cx="2590920" cy="2971800"/>
            <a:chOff x="914400" y="2895480"/>
            <a:chExt cx="2590920" cy="2971800"/>
          </a:xfrm>
        </p:grpSpPr>
        <p:sp>
          <p:nvSpPr>
            <p:cNvPr id="248" name=""/>
            <p:cNvSpPr/>
            <p:nvPr/>
          </p:nvSpPr>
          <p:spPr>
            <a:xfrm>
              <a:off x="1752840" y="2895480"/>
              <a:ext cx="83808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14400" y="3886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67240" y="5105520"/>
              <a:ext cx="838080" cy="76176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86000" y="3886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00200" y="5029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523880" y="3657600"/>
              <a:ext cx="6094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3720" y="3657600"/>
              <a:ext cx="38088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133720" y="4648320"/>
              <a:ext cx="457200" cy="380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4648320"/>
              <a:ext cx="22860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8360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9764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16920" y="515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44800" y="402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167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128840" y="2468160"/>
            <a:ext cx="472428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Arcs encode “causal” relationships between node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No more than 1 path (regardless of arc direction) between any node and any other node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If we added dotted red arc, we would have a loopy graph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Loopy graphs can be approximated by acyclic ones for inference, but this is outside the scope of this course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4648320"/>
            <a:ext cx="304560" cy="457200"/>
          </a:xfrm>
          <a:prstGeom prst="line">
            <a:avLst/>
          </a:prstGeom>
          <a:ln cap="rnd" w="316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ference and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2438280"/>
            <a:ext cx="762012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alculating a probability over a set of nodes given the values of other no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wo most useful modes of inference are PREDICTIVE (from root to leaf) and DIAGNOSTIC (from leaf to roo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act and approximate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xact methods exist for Directed Acyclic Graphs (DAG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pproximations exists for other graph typ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600200" y="3505320"/>
            <a:ext cx="5151240" cy="1341360"/>
            <a:chOff x="1600200" y="3505320"/>
            <a:chExt cx="5151240" cy="1341360"/>
          </a:xfrm>
        </p:grpSpPr>
        <p:sp>
          <p:nvSpPr>
            <p:cNvPr id="267" name=""/>
            <p:cNvSpPr/>
            <p:nvPr/>
          </p:nvSpPr>
          <p:spPr>
            <a:xfrm>
              <a:off x="1600200" y="3505320"/>
              <a:ext cx="5151240" cy="134136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1828800" y="3733920"/>
                  <a:ext cx="466884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sterior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likelihood</m:t>
                          </m:r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prio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probability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rPr>
                              <m:lit/>
                              <m:nor/>
                            </m:rPr>
                            <m:t xml:space="preserve">evidenc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26668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ayes rule allows us to deal with uncertain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ayesian networks encode conditional independence. Simple DAGs can be used n causal and diagnostic mo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amples of inference using Bayesian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 lot of excellent reference material on Bayesian reasoning can be found 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http://www.csse.monash.edu.au/ba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 why is Bayes rule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well-founded methodology for reasoning with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methods are the basis for our model of perception guided by expec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develop well-founded methods of learning rather than just being stuck with hand-coded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yes rule: dealing with uncertain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Bayes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294336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22840" y="5985000"/>
            <a:ext cx="318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v. THOMAS BAY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702-176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2514600"/>
            <a:ext cx="472428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urces of uncertainty e.g.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gnora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plex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hysical randomn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aguen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probability theory to reason about uncertain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careful to understand what you mean by probability and use it consistent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equency analy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li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theory - rem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(x)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single continuous value in the range [0,1]. Think of either as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“x is true in 0.7 of cases”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frequentist)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 of “I believe x = true with probability 0.7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(X)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ften (but not always) used to denote a distribution over a set of values, e.g. if X is discrete {x=true, x=false} then P(X) encompasses knowledge of both values. p(x=true) is then a single valu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theory - rem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895120"/>
            <a:ext cx="80294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int prob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4560" y="4876920"/>
            <a:ext cx="8029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ditional prob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752480" y="3581280"/>
                <a:ext cx="4875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lso written as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∧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816200" y="5410080"/>
                <a:ext cx="3987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</m:t>
                    </m:r>
                    <m:r>
                      <m:t xml:space="preserve">X</m:t>
                    </m:r>
                    <m:r>
                      <m:t xml:space="preserve">given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theory - rem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4560" y="2743200"/>
            <a:ext cx="80294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ditional indepen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70200" y="3414600"/>
                <a:ext cx="50990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f </m:t>
                        </m:r>
                        <m:r>
                          <m:t xml:space="preserve">X</m:t>
                        </m:r>
                        <m:r>
                          <m:t xml:space="preserve">⊥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then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114560" y="4343400"/>
            <a:ext cx="80294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arginali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30240" y="5045040"/>
                <a:ext cx="373068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yes rule – the bas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4343400"/>
            <a:ext cx="990720" cy="9907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895480"/>
            <a:ext cx="990720" cy="9907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21000" y="2590920"/>
                <a:ext cx="405468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3429000" y="4572000"/>
            <a:ext cx="5105520" cy="1325520"/>
            <a:chOff x="3429000" y="4572000"/>
            <a:chExt cx="5105520" cy="1325520"/>
          </a:xfrm>
        </p:grpSpPr>
        <p:sp>
          <p:nvSpPr>
            <p:cNvPr id="120" name=""/>
            <p:cNvSpPr/>
            <p:nvPr/>
          </p:nvSpPr>
          <p:spPr>
            <a:xfrm>
              <a:off x="3429000" y="4572000"/>
              <a:ext cx="5105520" cy="132552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3597120" y="4602240"/>
                  <a:ext cx="4759560" cy="12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|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2" name=""/>
          <p:cNvSpPr/>
          <p:nvPr/>
        </p:nvSpPr>
        <p:spPr>
          <a:xfrm>
            <a:off x="5034600" y="594360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AYES RU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3886200"/>
            <a:ext cx="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yes rule – the bas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706400" y="3855960"/>
            <a:ext cx="5151240" cy="1325520"/>
            <a:chOff x="1706400" y="3855960"/>
            <a:chExt cx="5151240" cy="1325520"/>
          </a:xfrm>
        </p:grpSpPr>
        <p:sp>
          <p:nvSpPr>
            <p:cNvPr id="126" name=""/>
            <p:cNvSpPr/>
            <p:nvPr/>
          </p:nvSpPr>
          <p:spPr>
            <a:xfrm>
              <a:off x="1706400" y="3855960"/>
              <a:ext cx="5151240" cy="132552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782360" y="3855960"/>
                  <a:ext cx="4984920" cy="12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H</m:t>
                      </m:r>
                      <m:r>
                        <m:t xml:space="preserve">|</m:t>
                      </m:r>
                      <m:r>
                        <m:t xml:space="preserve">E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|</m:t>
                          </m:r>
                          <m:r>
                            <m:t xml:space="preserve">H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H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4200" y="2437920"/>
            <a:ext cx="7800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s an illustration, let’s look at the conditional probability of a hypothesis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ased on some evidence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92360" y="5289480"/>
            <a:ext cx="5151240" cy="1341360"/>
            <a:chOff x="1692360" y="5289480"/>
            <a:chExt cx="5151240" cy="1341360"/>
          </a:xfrm>
        </p:grpSpPr>
        <p:sp>
          <p:nvSpPr>
            <p:cNvPr id="130" name=""/>
            <p:cNvSpPr/>
            <p:nvPr/>
          </p:nvSpPr>
          <p:spPr>
            <a:xfrm>
              <a:off x="1692360" y="5289480"/>
              <a:ext cx="5151240" cy="134136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920960" y="5518080"/>
                  <a:ext cx="466884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sterior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likelihood</m:t>
                          </m:r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prio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probability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rPr>
                              <m:lit/>
                              <m:nor/>
                            </m:rPr>
                            <m:t xml:space="preserve">evidenc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5:42:46Z</dcterms:created>
  <dc:creator>Sage</dc:creator>
  <dc:description/>
  <dc:language>en-US</dc:language>
  <cp:lastModifiedBy>Sage</cp:lastModifiedBy>
  <dcterms:modified xsi:type="dcterms:W3CDTF">2005-03-24T14:01:18Z</dcterms:modified>
  <cp:revision>95</cp:revision>
  <dc:subject/>
  <dc:title>Programming Techniques 804G5</dc:title>
</cp:coreProperties>
</file>